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Verdana"/>
              </a:rPr>
              <a:t>Click to move the slide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184F-643F-4757-80F5-BBC9DD4B1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rocesseur: ARM7TMDI 16.7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cran: 240x160 32768 coul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AM: 32 ko interne, 256 ko ext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OM (GamePak): 16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émoire vidéo: 96 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855-5AFE-426B-9DC9-A5C8CA72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0B4-C554-4B48-A5A2-94A9DA61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A8C-B9FB-43E8-9E6A-D1545ADC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44D-BAA1-4236-8F14-D7AD3E19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9B9-2C98-451A-A139-E3C888A1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49E-4E01-45A5-B9B3-27151C8F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A1E-BEE5-473F-9966-622E3A91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062-3E4F-406C-A4DD-0710D8A6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33F-F0CF-482B-A2EA-48F13147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02A-5A83-432E-A2C0-2D4464B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F34-E1ED-4CB5-BA00-E83FE7D8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10A-3CE0-437A-A142-72C8F9C4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Verdana"/>
              </a:rPr>
              <a:t>Click to edit the title text format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33F4-DF8F-4774-BAD8-ACC322E97227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emo%20sonic.ba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5600" spc="-1" strike="noStrike">
                <a:solidFill>
                  <a:srgbClr val="ff0066"/>
                </a:solidFill>
                <a:latin typeface="Verdana"/>
              </a:rPr>
              <a:t>GameBoy Advance</a:t>
            </a:r>
            <a:endParaRPr b="1" i="1" lang="en-US" sz="56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66"/>
                </a:solidFill>
                <a:latin typeface="Verdana"/>
              </a:rPr>
              <a:t>Projekt von Brönnimann Florian und David Zanell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But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Utiliser les éléments du proje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Faire une applic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Pour les portes ouvert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Carte de l’EMV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Infos sur les projet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Paramètres (option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Contenu éditable facilemen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« Tilemaps »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Princip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Démonstrat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Fonction matérielle sur GB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4 B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Mémoire vidé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Mémoire E/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Objets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Utilis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Objets actif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66"/>
                </a:solidFill>
                <a:latin typeface="Verdana"/>
              </a:rPr>
              <a:t>Personnag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66"/>
                </a:solidFill>
                <a:latin typeface="Verdana"/>
              </a:rPr>
              <a:t>Objets animé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66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Support matériel sur GB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128 « sprites 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Attributs: palette, miroir, rotation, transparence, 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84" name="scr3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581280" cy="2387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Ecran map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But du programm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Mode « tilemap » + obje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87" name="scr1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581640" cy="2387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Système de menus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Bu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Afficher un menu en utilisant une syntaxe de type « texte »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Lien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66"/>
                </a:solidFill>
                <a:latin typeface="Verdana"/>
              </a:rPr>
              <a:t>Afficher un fichier text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Menu pau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Menu avancé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66"/>
                </a:solidFill>
                <a:latin typeface="Verdana"/>
              </a:rPr>
              <a:t>Réglages: musique, couleurs, options, …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Lecteur de textes</a:t>
            </a: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Affiche un text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Balis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66"/>
                </a:solidFill>
                <a:latin typeface="Verdana"/>
              </a:rPr>
              <a:t>Modifie les attribu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66"/>
                </a:solidFill>
                <a:latin typeface="Verdana"/>
              </a:rPr>
              <a:t>Command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66"/>
                </a:solidFill>
                <a:latin typeface="Verdana"/>
              </a:rPr>
              <a:t>Effet div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Défilement de l’écra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Mode « bitmap »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2" name="scr2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276360" cy="2184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Automatisation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Interfaçage sur P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400" spc="-1" strike="noStrike">
                <a:solidFill>
                  <a:srgbClr val="ff0066"/>
                </a:solidFill>
                <a:latin typeface="Verdana"/>
              </a:rPr>
              <a:t>Bildbearbeitung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84800" cy="4726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Verdana"/>
              </a:rPr>
              <a:t>Anzeige/Menu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734000" cy="3381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400" spc="-1" strike="noStrike">
                <a:solidFill>
                  <a:srgbClr val="ff0066"/>
                </a:solidFill>
                <a:latin typeface="Verdana"/>
              </a:rPr>
              <a:t>Link einfühgen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019840" cy="30193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Verdana"/>
              </a:rPr>
              <a:t>Index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437920"/>
            <a:ext cx="8229600" cy="33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66"/>
                </a:solidFill>
                <a:latin typeface="Verdana"/>
              </a:rPr>
              <a:t>Bu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990099"/>
                </a:solidFill>
                <a:latin typeface="Verdana"/>
              </a:rPr>
              <a:t>La GB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6605"/>
                </a:solidFill>
                <a:latin typeface="Verdana"/>
              </a:rPr>
              <a:t>Programme Floria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996633"/>
                </a:solidFill>
                <a:latin typeface="Verdana"/>
              </a:rPr>
              <a:t>Programme Zanell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6666"/>
                </a:solidFill>
                <a:latin typeface="Verdana"/>
              </a:rPr>
              <a:t>Dém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a50021"/>
                </a:solidFill>
                <a:latin typeface="Verdana"/>
              </a:rPr>
              <a:t>Ques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3886200" cy="2265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Verdana"/>
              </a:rPr>
              <a:t>Textbearbeitung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121440" cy="4692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Verdana"/>
              </a:rPr>
              <a:t>Event Auswahl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5373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532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Event = Menu, Text der bei der Zone Angezeigt wir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67200" y="1943280"/>
            <a:ext cx="3009600" cy="29718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Verdana"/>
              </a:rPr>
              <a:t>Zonen Bearbeitung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3009960" cy="2962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La démo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Verdana"/>
              </a:rPr>
              <a:t>Fragen ?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32000" y="3213000"/>
            <a:ext cx="2519640" cy="2519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400" spc="-1" strike="noStrike">
                <a:solidFill>
                  <a:srgbClr val="ff0066"/>
                </a:solidFill>
                <a:latin typeface="Verdana"/>
              </a:rPr>
              <a:t>Ziel des Projektes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66"/>
                </a:solidFill>
                <a:latin typeface="Verdana"/>
              </a:rPr>
              <a:t>GameBoy Advance verstehe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66"/>
                </a:solidFill>
                <a:latin typeface="Verdana"/>
              </a:rPr>
              <a:t>Anwendung Programiere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527640" cy="2352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Organisation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pic>
        <p:nvPicPr>
          <p:cNvPr id="58" name="scr1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62520" cy="302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11720" y="3657600"/>
            <a:ext cx="914400" cy="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400" spc="-1" strike="noStrike">
                <a:solidFill>
                  <a:srgbClr val="ff0066"/>
                </a:solidFill>
                <a:latin typeface="Verdana"/>
              </a:rPr>
              <a:t>Material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66"/>
                </a:solidFill>
                <a:latin typeface="Verdana"/>
              </a:rPr>
              <a:t>GameBoy Advanc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66"/>
                </a:solidFill>
                <a:latin typeface="Verdana"/>
              </a:rPr>
              <a:t>EZ Flash Advance, 256 Mbi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2592360" cy="2446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446560" cy="24465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Verdana"/>
              </a:rPr>
              <a:t>Programme für den GBA</a:t>
            </a:r>
            <a:endParaRPr b="1" i="1" lang="en-US" sz="4000" spc="-1" strike="noStrike">
              <a:solidFill>
                <a:srgbClr val="ff0066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34124" b="0"/>
          <a:stretch/>
        </p:blipFill>
        <p:spPr>
          <a:xfrm>
            <a:off x="826920" y="260280"/>
            <a:ext cx="75614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1152720" cy="109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1297080" cy="110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788000" y="3933720"/>
            <a:ext cx="1512720" cy="91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916360" y="5157720"/>
            <a:ext cx="958680" cy="1150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400" spc="-1" strike="noStrike">
                <a:solidFill>
                  <a:srgbClr val="ff0066"/>
                </a:solidFill>
                <a:latin typeface="Verdana"/>
              </a:rPr>
              <a:t>Inenleben eines GBA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797360"/>
            <a:ext cx="5105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ocesseur: ARM7TDMI 16.7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cran: 240x160 32768 coul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RAM: 32+256 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ROM: 16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Vidéo: 96 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1049400"/>
            <a:ext cx="4952880" cy="359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La map interactive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Application pour la Game Boy Advanc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ff0066"/>
                </a:solidFill>
                <a:latin typeface="Verdana"/>
              </a:rPr>
              <a:t>Map interactive</a:t>
            </a:r>
            <a:endParaRPr b="1" i="1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Verdana"/>
              </a:rPr>
              <a:t>Bu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6605"/>
                </a:solidFill>
                <a:latin typeface="Verdana"/>
              </a:rPr>
              <a:t>Système graphiqu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0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6605"/>
                </a:solidFill>
                <a:latin typeface="Verdana"/>
              </a:rPr>
              <a:t>« Tilemaps »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0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6605"/>
                </a:solidFill>
                <a:latin typeface="Verdana"/>
              </a:rPr>
              <a:t>Obje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660000"/>
                </a:solidFill>
                <a:latin typeface="Verdana"/>
              </a:rPr>
              <a:t>Le programm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660000"/>
                </a:solidFill>
                <a:latin typeface="Verdana"/>
              </a:rPr>
              <a:t>Ecran map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660000"/>
                </a:solidFill>
                <a:latin typeface="Verdana"/>
              </a:rPr>
              <a:t>Système de dialogues et menu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660000"/>
                </a:solidFill>
                <a:latin typeface="Verdana"/>
              </a:rPr>
              <a:t>Lecteur de text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9:25:11Z</dcterms:created>
  <dc:creator>Mario</dc:creator>
  <dc:description/>
  <dc:language>en-US</dc:language>
  <cp:lastModifiedBy>Florian Brönnimann</cp:lastModifiedBy>
  <dcterms:modified xsi:type="dcterms:W3CDTF">2004-11-10T09:06:08Z</dcterms:modified>
  <cp:revision>30</cp:revision>
  <dc:subject/>
  <dc:title>GameBoy Advance</dc:title>
</cp:coreProperties>
</file>