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620D-2AE3-48CB-BB8D-46EB1EBA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592E-5828-4CE2-9720-64D0190C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9B0B-6538-4152-B347-B2DBF904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2DC4-4F4E-4BE9-A062-7539E7C0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ADB0-D992-4D67-B9EA-687DAC62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AFC5-B632-4065-A084-D0738A58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0D85-7C55-427B-9A52-C3822B17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3C0A-AD1D-4B0A-9489-EC023467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1EFC-3B39-4797-A300-4C50101F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54FF-FEE7-4C33-8D64-317EE46C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6D4D-9AE3-4EA7-A575-8908027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6C29-27F7-4ED3-8B3F-293142E4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A9B3-75D7-42AB-B7DC-BA06D00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B8C-EAE1-460F-A8BE-4F3AB1B4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C411-E839-45DD-8006-D900540E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8FF5-0E13-4567-9491-BC749185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1BA7-A664-424A-90A3-BDDCFDE0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6185-C384-410E-99EF-E092C314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6F0C-45EB-4709-A673-C9DC3C61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7637-4EA8-4C22-9805-68C52B68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E206-571B-49AF-B87E-B28D44C5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C09B-3054-4AE5-A113-5A7E2EFC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7F2D-28A9-4ABE-B3D8-BC1B9CBD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DE61-71FB-4030-BF6E-D3000364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006-F81B-4720-8059-9F7FA937C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EDAD-C083-42E1-B3EB-B780CE3C8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rojet GE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Jeu – Ch’tit Ca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65530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senté par F.Brönnimann, P.Steiner, A.Bujard, R.Cornu &amp; G.D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 à su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’tit can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partition des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ité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monstration du j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s problèmes avec 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65530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senté par F.Brönnimann, P.Steiner, A.Bujard, R.Cornu &amp; G.D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’tit canon en br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u de tir (Can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usqu’à 6 joueurs par pa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 cartes différ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 types d’armes diffé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iendly-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stion du 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65530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senté par F.Brönnimann, P.Steiner, A.Bujard, R.Cornu &amp; G.D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épartition des tâ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. Brönnimann : Chef de group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                   Développeur client – j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. Bujard : Designer &amp; Te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. Steiner : Développeur serv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. Cornu : Développeur client – lobby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         Documentaliste jusqu’à Itérati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. Dinant : Chef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65530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senté par F.Brönnimann, P.Steiner, A.Bujard, R.Cornu &amp; G.D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itérations en br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composition en 6 ité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  Choix du proj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  Partage des responsabilités, élaboration du proj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  Fin élaboration, début con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apport intermédiai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oteur physique entam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Gestion du lobby côté serve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réation des 2 premières cartes de j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 Concep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in du moteur physique (gestion collision, destruction du terrai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de serveur terminé, conception du lo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 carte, 1 mus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 Con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corporation du moteur 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 carte, 1 mus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Gestion des dégâts sur les can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6 Fin con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terface final, gestion du vent, fin du 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ise en œuvre multi-joueur serveur / 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Gestion du chat dans le lo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Gestion de l’IF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ests finau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 Tran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(dernier debug </a:t>
            </a:r>
            <a:r>
              <a:rPr b="0" lang="fr-FR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és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65530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senté par F.Brönnimann, P.Steiner, A.Bujard, R.Cornu &amp; G.D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émonstration de l’application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65530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senté par F.Brönnimann, P.Steiner, A.Bujard, R.Cornu &amp; G.D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èmes avec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unitaires remplacés par des tests fonctionn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és à incorporer les tests unitaires avec nos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65530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senté par F.Brönnimann, P.Steiner, A.Bujard, R.Cornu &amp; G.D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65530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senté par F.Brönnimann, P.Steiner, A.Bujard, R.Cornu &amp; G.D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28:50Z</dcterms:created>
  <dc:creator>ArTeMiS</dc:creator>
  <dc:description/>
  <dc:language>en-US</dc:language>
  <cp:lastModifiedBy>ArTéMiS</cp:lastModifiedBy>
  <dcterms:modified xsi:type="dcterms:W3CDTF">2009-06-04T08:14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